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3D1-3FEA-4AC2-AAD7-8B3C0E50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773-161C-4EE8-A391-1A8AE9AE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B2E-C5F3-4811-90BA-196EA44E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F82-B7B7-4CC6-91B2-5DA8D0E0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1251-FB26-4039-8B0A-2B9F434D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09BC-AF9A-4423-88D7-76A31D8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823B-39F6-4E87-A95F-9E2CEC0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8CE4-C021-4C2C-99C9-3112650B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5C71-E8DD-481C-9C9D-0E41845A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AD4-E511-44E4-8828-4531422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B560-E60F-47FC-8A75-66C8FE6E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497-6D79-4A3D-AF02-FA1716EE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AAB3-920F-4EE8-B9E8-4EA3C9D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0517-FFB4-47C0-89EC-C49A906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2367-7B72-44C5-AD71-E8867E57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FA4-D5C5-4C67-A4FE-EEDD3E8A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56B5-B7A0-4498-ADD6-15A2DBA4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C21-B4CF-4DC8-A4D5-49CC9C3E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275-EFDA-41E9-93AD-F62CDBE2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EDD-DFF2-414B-8985-EB9B1C1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E11-64D6-4D96-B36E-0FCBFFA5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696-7E30-48DC-83E4-2665AEA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5D9-AEAF-4AEA-93BE-14B27F38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640-C990-4EBA-90EF-A3775B2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7FE2-9492-403E-8036-5DA31B6E2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E2B-F9FB-45CA-8535-E57CF680E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19640" y="333360"/>
            <a:ext cx="28605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Pedair Llinell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6560" y="980640"/>
            <a:ext cx="761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eb godi eich pensel oddi ar y papur, cysylltwch y naw smotyn gyda phedwar llinell sy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16360" y="2492280"/>
            <a:ext cx="3542760" cy="3543480"/>
            <a:chOff x="2916360" y="2492280"/>
            <a:chExt cx="3542760" cy="3543480"/>
          </a:xfrm>
        </p:grpSpPr>
        <p:grpSp>
          <p:nvGrpSpPr>
            <p:cNvPr id="101" name=""/>
            <p:cNvGrpSpPr/>
            <p:nvPr/>
          </p:nvGrpSpPr>
          <p:grpSpPr>
            <a:xfrm>
              <a:off x="2916360" y="2492280"/>
              <a:ext cx="3542760" cy="342720"/>
              <a:chOff x="2916360" y="2492280"/>
              <a:chExt cx="3542760" cy="342720"/>
            </a:xfrm>
          </p:grpSpPr>
          <p:sp>
            <p:nvSpPr>
              <p:cNvPr id="102" name=""/>
              <p:cNvSpPr/>
              <p:nvPr/>
            </p:nvSpPr>
            <p:spPr>
              <a:xfrm>
                <a:off x="2916360" y="24922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16560" y="24922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16400" y="24922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916360" y="4092480"/>
              <a:ext cx="3542760" cy="342720"/>
              <a:chOff x="2916360" y="4092480"/>
              <a:chExt cx="3542760" cy="342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916360" y="40924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6560" y="40924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16400" y="40924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916360" y="5693040"/>
              <a:ext cx="3542760" cy="342720"/>
              <a:chOff x="2916360" y="5693040"/>
              <a:chExt cx="3542760" cy="342720"/>
            </a:xfrm>
          </p:grpSpPr>
          <p:sp>
            <p:nvSpPr>
              <p:cNvPr id="110" name=""/>
              <p:cNvSpPr/>
              <p:nvPr/>
            </p:nvSpPr>
            <p:spPr>
              <a:xfrm>
                <a:off x="2916360" y="569304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16560" y="569304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16400" y="569304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48:39Z</dcterms:created>
  <dc:creator>Carwyn</dc:creator>
  <dc:description/>
  <dc:language>en-US</dc:language>
  <cp:lastModifiedBy>Carwyn</cp:lastModifiedBy>
  <dcterms:modified xsi:type="dcterms:W3CDTF">2008-12-07T19:50:56Z</dcterms:modified>
  <cp:revision>1</cp:revision>
  <dc:subject/>
  <dc:title>Pedair Llinell</dc:title>
</cp:coreProperties>
</file>